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CFB-DDEA-4C63-9AF9-2773F7F81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A97-47E0-4944-BDD2-EEA22C360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B553-637D-4B03-A4CE-E8A06A8F0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view Headers &amp; Footer Group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nding Theme you choose will modify location of H &amp; F.  More flexibility with Notes &amp; Handouts section.  Can Apply to one or All Slid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rt Header &amp; Footer to your project to includ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te, Class Name, and Page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2BB0-D137-4E9B-B82D-B351EFBC9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AE8-8AB0-4AA9-B329-886D759FD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quick access toolbar can be modified to add customized options and can be relocated to appear below the ribb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Modify quick access tool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008D-F2A1-45B6-A808-FF35A1DCA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79F2-8622-4960-B6AA-CDD333110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 you prefer using the keyboard instead of the mouse, you can press the ALT key to display the Key Tips ba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5E9F-8169-4919-95E9-7E32C1BE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E06-99A2-47AA-980B-CF982C2291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C2F-9149-4182-BB92-4169A39EE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2590-695A-4DA3-8590-D2196C9214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owerPoint Window contains features includ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Office Button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how to save file and name file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</a:rPr>
              <a:t>(i.e. Assignment 1), using Save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ibbon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ntrol center for PP, defaults to HOME; within each ribbon are groups; review 8 defaults; dialogue box launcher (keep brie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/Outline Pane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tab previews content and shows status of slide number; outline view shows text only of slide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atus 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slide location selected and identifies slide design “Them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tes Pane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you to elaborate on bullet points with editable notes; you can print notes (show them this)  *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RULE of 7: 7x7- max of 7 words on a line, 7 lines per slide ;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Add to notes section a welcome message help text (i.e., Hello, My name is ….today I will be presenting an interactive slides how to you on the Industrial Rev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iew Buttons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options for slide views: Normal, Slide Sorter, and View Slide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roups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orementioned with Ribbon, will re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and Tabs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visit with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itle 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 name of save file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ick Access Toolbar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easy access to frequently used commands, customizable and accesable via right mouse click (will address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ice Button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, Print, Email fil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637-13FE-4166-83CE-B8E0D7853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C76C-4D1B-455A-9DE1-185C980CA3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bbon- Control Ta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me Ribb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an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sign Ribb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and start with a few items o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create title slide by inserting a 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enter place title on their slide which includes their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ME and TITLE of PROJ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e Industrial R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modify text using the Home Ribbon and the quick access toolb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enter an information slide by either right mous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icking in slide pane or choosing new slide op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group. Title with Content option is fine for this slide.  Enter Heading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team Pow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 and add a bullet point of information:  J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mes Watt invented steam engine in 1782; Hundreds of his machines used through Britai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insert a picture file (website/royalty free images) representing the project topic b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serting slide with Picture Caption Op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 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CTURE tools tab and resizing an image,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ybib Citation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BD19-8C45-4E54-844F-7AB0BADA9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D57-504D-41AE-B9B2-C88BA93527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 Ribbon allows you to select a Theme and page orientation for your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Rib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CTION)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THEME to your PowerPoint, you can modify your style, color, fo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ide Background Graphic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box and slide ori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or and Font Customiz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s to modify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366-7A62-4726-A1A7-04017193F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ate Placeholder 4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F880-30DD-4C26-8270-45F2D3124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8BCA-34D3-459D-BCBF-81996C7C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ADE-CD5D-4469-9D9B-2D79E4B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2BD-AA9A-4346-9CC1-A8D50CCE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509-1CC0-4093-9948-225091BB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3EC6-48BC-4B67-BEB0-F96F6B00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E70C-9892-42E1-AA31-72DAB2F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F385-8FDD-4918-9524-BB393D6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4DDF-C0C9-4408-A58D-671AA7BC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3439-DA38-42A2-BE98-A4A3F26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AFAE-E3CD-4BCC-954C-64068F6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FC2-99AF-4890-BF59-82398FA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939-B658-49DD-9453-7252815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E61D-7E74-4AD9-98E8-11A6770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752-ADFE-41BC-A9ED-13E5455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23C-8A9F-4F06-AE31-D400ACF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70F-E751-4973-B838-6314BE4B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FFAE-DDD4-4977-803A-1CDB6976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D46FC-0976-41E0-9093-D5C831AA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0245F-71B8-4924-849F-989AB3D1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E4DCC-83C4-48F2-81AF-A42DDAC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1FE74-BEFF-4522-A8D6-2A38174C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14F3C-98C7-4546-9D84-A4DED56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DFCB-36AD-46FA-87EA-A81B438E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96A87-ABB2-42CF-8E59-5F1EF351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BBA94-5054-4F02-BCF3-6145457E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AB0B4-6828-4F3E-B546-C59E8C5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A69B5-B5CC-414A-A0FF-3589467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C7FDE-5DC0-4F31-8A5C-B0C2FB27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F6080-403A-42CF-AD0D-CA7FDE68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5A845-D204-448A-886D-60B3BAA4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512C4-76A0-4628-9436-1AC74F76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FE54-4220-4A3D-B799-C201685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240FB-432F-4A38-89AE-D70B1F6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AA7-4C39-4D3C-A965-36B63D0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4272-8683-4208-900B-EC5D36A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9A48-B19B-457F-886C-9500D76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741E-7B8A-40C5-809B-AB98B95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4E7F-0FC5-45C1-816A-3990549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7373-29E7-4737-8CA7-82B797DE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6151-0EF0-401C-926F-0B5C030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534F-52DA-48C2-82E0-BD2077A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983BB-8855-4C23-95AC-9C98CE5E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DFD55-5641-4555-B5BD-C8F662F7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5A16C-6DD3-4FE3-9962-9DAD8B96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361-2A41-4080-BF5B-6D65A05F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2280D-291A-421C-8DD5-6FA9827B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7BF0B-A77E-4855-B381-08898E63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E5000-6382-445E-9D72-59D5B636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3DCE9-4B32-4EB0-B822-957324AB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83FC8-4093-49A6-B126-2C8A117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EA3EB-D34F-403A-A3A0-DF109D38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5DB71-1BF5-4F69-9059-1134210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169BF-818F-448F-B8AB-88BE7A5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5A397-9857-4813-AB44-74A1E21E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FE662-0E3B-4704-BF70-DF3910CA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8A6-6C83-4B70-90BC-3409C95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9F572-6D56-473B-90C0-2DF947B9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288AA-3D5B-4D41-9764-5A5F120D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FA71C-AD7B-4EA1-A861-41FCFF0D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51F56-66AC-49D8-8596-D668789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50A71-9B5B-4FC9-A602-34B1D9A9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893FB-CD71-4F6F-9BCF-3918EE1F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0D973-22E3-4A91-8620-934CB23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247AA-3A4E-47F9-A460-C6E6792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EE090-CAC0-489C-9281-D6925A46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F4982-F6DE-435C-9359-FD6DB71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1F0-B635-49D6-9745-674AD4E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6BBE1-9F95-416E-87AD-9211A20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2E113-F6DC-4161-B70E-8BB237F7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C133CB-CF69-4B30-8F98-19F37DBC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031BC-0BE9-4505-90F3-0D5D30D6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18562-04A8-41A3-BF62-F7F838A4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08C88-1851-4EA9-BDBB-30D5377D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D10AB-044E-47DC-9F50-737B1B8B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75992-A32D-4276-B084-92D143DF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CECBF-2481-4969-8B53-20AF5C37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AFB8B-C1D8-4FB9-8BFB-A9B66EA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112-12B9-48DE-88F8-E13F3CD5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B2F7A-A8EB-47CC-A63F-324E617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FFBBB-774D-46B7-9117-09C5DDC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70CA5-42D0-4A5D-B53D-B4782B1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705B7-733E-4235-BE00-468D89D2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64699-8006-4120-8463-C89878F0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BBC-0FBD-433D-A786-2A078AB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1522-E8BE-4F11-924E-C4C4805E7951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7ABF-F58C-4FE8-8B03-658B09BDCD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F371-E2DE-4252-B9A9-265FBB885439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092D-6B85-4EBB-9332-D55CA2755E8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9C3A-E479-4FD7-8096-CEF2CBC67B48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77B2-200D-4BE9-8767-7A97B180A0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bfc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d7e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d7e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ecf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bfc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ecf0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bfc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bfc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79D-8CC2-4A82-8FBC-5D90F7263D4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0DC-6610-439E-B72E-3FB6E44A05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820-F909-4F01-ACB0-92F1ACDFD07E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9BD8-D737-44C2-A650-70D1854177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AF8-7C1E-4FDA-975B-A28D316AE538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2AF-71DB-49B5-8CCD-9CC3869C41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b8bb"/>
            </a:gs>
            <a:gs pos="100000">
              <a:srgbClr val="eff4f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b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bf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7ca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46c8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cbfc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d8e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F8E-7852-4305-BD1B-E80582D4402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1AC2-2804-4994-9D8A-47F3180EAA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4653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53"/>
                </a:solidFill>
                <a:latin typeface="Century Schoolbook"/>
              </a:rPr>
              <a:t>BEYOND POWERPOINT BULLETS</a:t>
            </a:r>
            <a:endParaRPr b="0" lang="en-US" sz="30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14240" y="25146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ek 1: 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Content Review of Simple/Moderate Functions of 2007 MS P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Footer Placeholder 4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4D31-DC8A-45A2-B2F3-D750415FAE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www.clker.com/cliparts/f/4/8/c/11949850421205223696paint_brush_costea_bogda_01.svg.hi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956400">
            <a:off x="4068360" y="2898360"/>
            <a:ext cx="2716200" cy="3376800"/>
          </a:xfrm>
          <a:prstGeom prst="rect">
            <a:avLst/>
          </a:prstGeom>
          <a:ln w="0">
            <a:noFill/>
          </a:ln>
        </p:spPr>
      </p:pic>
      <p:sp>
        <p:nvSpPr>
          <p:cNvPr id="363" name="Date Placeholder 6"/>
          <p:cNvSpPr/>
          <p:nvPr/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D68B-EE65-4EF9-A28A-463DE17007DA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HEADERS &amp; FOOTERS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FCC-970E-4FEB-B42B-ACBF5E4D421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lick on the Header and Footer Button in PowerPoint"/>
          <p:cNvPicPr/>
          <p:nvPr/>
        </p:nvPicPr>
        <p:blipFill>
          <a:blip r:embed="rId1"/>
          <a:srcRect l="21452" t="0" r="0" b="0"/>
          <a:stretch/>
        </p:blipFill>
        <p:spPr>
          <a:xfrm>
            <a:off x="380880" y="1523880"/>
            <a:ext cx="3627720" cy="3475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eader and Footer Window in PowerPoint"/>
          <p:cNvPicPr/>
          <p:nvPr/>
        </p:nvPicPr>
        <p:blipFill>
          <a:blip r:embed="rId2"/>
          <a:stretch/>
        </p:blipFill>
        <p:spPr>
          <a:xfrm>
            <a:off x="2514600" y="2514600"/>
            <a:ext cx="5589720" cy="3927600"/>
          </a:xfrm>
          <a:prstGeom prst="rect">
            <a:avLst/>
          </a:prstGeom>
          <a:ln w="0">
            <a:noFill/>
          </a:ln>
        </p:spPr>
      </p:pic>
      <p:sp>
        <p:nvSpPr>
          <p:cNvPr id="419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A47-A7F4-4D37-ACDA-9DD6D1CF573B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Headers and Footers can be added to notes handou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C97-94CB-4932-8FBE-80AB5FF20CE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25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797-D7D7-4890-8419-2DE9432DBA4E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QUICK TOOLBAR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8805-F5D0-4A08-AB3B-BB804ECF390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8B6-9BA1-4415-91AA-ABEC12E47BE3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9" descr="http://0.tqn.com/d/presentationsoft/1/5/G/E/-/-/quickaccesstoolbar2.gif"/>
          <p:cNvPicPr/>
          <p:nvPr/>
        </p:nvPicPr>
        <p:blipFill>
          <a:blip r:embed="rId1"/>
          <a:stretch/>
        </p:blipFill>
        <p:spPr>
          <a:xfrm>
            <a:off x="2590920" y="1371600"/>
            <a:ext cx="4114800" cy="4599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KEY TIPS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DB8C-817A-4C35-87FA-B7E070BF84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e Placeholder 7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A3D-FE2C-48CC-A51E-E2BD1D17D7EA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http://www.word07.com/images/key-tips.jpg"/>
          <p:cNvPicPr/>
          <p:nvPr/>
        </p:nvPicPr>
        <p:blipFill>
          <a:blip r:embed="rId1"/>
          <a:srcRect l="0" t="0" r="31494" b="0"/>
          <a:stretch/>
        </p:blipFill>
        <p:spPr>
          <a:xfrm>
            <a:off x="414360" y="1981080"/>
            <a:ext cx="7891560" cy="2362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603360" y="262080"/>
            <a:ext cx="7480080" cy="1500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755640" y="1139760"/>
            <a:ext cx="6797520" cy="5462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EDB-F08B-468A-BE37-06733B0E45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http://officialpetsociety.files.wordpress.com/2010/07/red-french-beret.png?w=160&amp;h=160"/>
          <p:cNvPicPr/>
          <p:nvPr/>
        </p:nvPicPr>
        <p:blipFill>
          <a:blip r:embed="rId3"/>
          <a:srcRect l="20104" t="33546" r="21592" b="34396"/>
          <a:stretch/>
        </p:blipFill>
        <p:spPr>
          <a:xfrm rot="18157200">
            <a:off x="4809960" y="420840"/>
            <a:ext cx="666720" cy="3870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7">
            <a:hlinkClick r:id="rId4" action="ppaction://hlinksldjump"/>
          </p:cNvPr>
          <p:cNvSpPr/>
          <p:nvPr/>
        </p:nvSpPr>
        <p:spPr>
          <a:xfrm>
            <a:off x="2133720" y="2438280"/>
            <a:ext cx="1523880" cy="821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Th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0">
            <a:hlinkClick r:id="rId5" action="ppaction://hlinksldjump"/>
          </p:cNvPr>
          <p:cNvSpPr/>
          <p:nvPr/>
        </p:nvSpPr>
        <p:spPr>
          <a:xfrm>
            <a:off x="1447920" y="3429000"/>
            <a:ext cx="1523880" cy="8211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The Ribb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>
            <a:hlinkClick r:id="rId6" action="ppaction://hlinksldjump"/>
          </p:cNvPr>
          <p:cNvSpPr/>
          <p:nvPr/>
        </p:nvSpPr>
        <p:spPr>
          <a:xfrm>
            <a:off x="1905120" y="4495680"/>
            <a:ext cx="1523880" cy="821160"/>
          </a:xfrm>
          <a:prstGeom prst="ellipse">
            <a:avLst/>
          </a:prstGeom>
          <a:solidFill>
            <a:srgbClr val="ffaa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Slide Des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>
            <a:hlinkClick r:id="rId7" action="ppaction://hlinksldjump"/>
          </p:cNvPr>
          <p:cNvSpPr/>
          <p:nvPr/>
        </p:nvSpPr>
        <p:spPr>
          <a:xfrm>
            <a:off x="3352680" y="5105520"/>
            <a:ext cx="1676520" cy="821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Header &amp; Foo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5105520" y="4495680"/>
            <a:ext cx="1523880" cy="821160"/>
          </a:xfrm>
          <a:prstGeom prst="ellipse">
            <a:avLst/>
          </a:prstGeom>
          <a:solidFill>
            <a:srgbClr val="e40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Quick 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"/>
          <p:cNvSpPr/>
          <p:nvPr/>
        </p:nvSpPr>
        <p:spPr>
          <a:xfrm>
            <a:off x="5638680" y="3429000"/>
            <a:ext cx="1524240" cy="4770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Schoolbook"/>
              </a:rPr>
              <a:t>Key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ate Placeholder 12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1C4-BF73-4D1B-9AEE-6B105F696E67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THE WINDOW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69C8-45BF-4FC7-9A46-279F6D72F2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hhh.gavilan.edu/jmaringer/PowerPoint2007/Photos/PPTwindow2007"/>
          <p:cNvPicPr/>
          <p:nvPr/>
        </p:nvPicPr>
        <p:blipFill>
          <a:blip r:embed="rId1"/>
          <a:stretch/>
        </p:blipFill>
        <p:spPr>
          <a:xfrm>
            <a:off x="533520" y="1600200"/>
            <a:ext cx="7238880" cy="5011560"/>
          </a:xfrm>
          <a:prstGeom prst="rect">
            <a:avLst/>
          </a:prstGeom>
          <a:ln w="0">
            <a:noFill/>
          </a:ln>
        </p:spPr>
      </p:pic>
      <p:sp>
        <p:nvSpPr>
          <p:cNvPr id="380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DF7-3CFB-4338-ABF8-51228B3A6DCB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of the following is NOT an option in the view buttons section of The Window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Normal Vie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Slide Sorte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Slide Show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Outline View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6695-F1B1-46C0-BAF3-AC433705723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C80C-BF30-40A2-B415-2CA5D010F5BA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While in Outline View, both images and text are viewa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4AA9-6899-456B-A83B-902C82E483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391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E10-475A-42EA-93B4-B75CB639B618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THE RIBBON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C5DC-382D-4CA7-8A80-9758D57E97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://assets.gcflearnfree.org/topics/176/1_ribbon.png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3054240"/>
          </a:xfrm>
          <a:prstGeom prst="rect">
            <a:avLst/>
          </a:prstGeom>
          <a:ln w="0">
            <a:noFill/>
          </a:ln>
        </p:spPr>
      </p:pic>
      <p:sp>
        <p:nvSpPr>
          <p:cNvPr id="396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45E8-B517-4D75-94D1-59A0B8A11945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s within the Ribbon sometimes contain a Dialogue Box Launch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E1E2-6870-44A7-96A7-D3C176ABB0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02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0CD6-88E3-4847-B206-A758E7352546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solidFill>
            <a:srgbClr val="638cae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SLIDE DESIGN</a:t>
            </a:r>
            <a:endParaRPr b="0" lang="en-US" sz="4400" spc="-1" strike="noStrike">
              <a:solidFill>
                <a:srgbClr val="464653"/>
              </a:solidFill>
              <a:latin typeface="Century Schoolbook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919-4631-4F71-8D8F-9883A6DA9A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www.addintools.com/documents/powerpoint/images/ppt-slide-designs-ribbon-675-296.png"/>
          <p:cNvPicPr/>
          <p:nvPr/>
        </p:nvPicPr>
        <p:blipFill>
          <a:blip r:embed="rId1"/>
          <a:stretch/>
        </p:blipFill>
        <p:spPr>
          <a:xfrm>
            <a:off x="838080" y="1600200"/>
            <a:ext cx="7297920" cy="3200400"/>
          </a:xfrm>
          <a:prstGeom prst="rect">
            <a:avLst/>
          </a:prstGeom>
          <a:ln w="0">
            <a:noFill/>
          </a:ln>
        </p:spPr>
      </p:pic>
      <p:sp>
        <p:nvSpPr>
          <p:cNvPr id="407" name="Date Placeholder 5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A83-F1FC-419C-8BDF-29AD3DF87A49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Diagram 9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760248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09480" y="15238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Under the Design Group, the use can orient his/her page setup as either landscape or  portrai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TRU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24"/>
              </a:spcBef>
              <a:buClr>
                <a:srgbClr val="727ca3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d0d0d"/>
                </a:solidFill>
                <a:latin typeface="Century Schoolbook"/>
              </a:rPr>
              <a:t>FALS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FF0A-4735-4D8B-946D-36E0A5FB3E3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UDAES, Stephanie A. Hultquist, M.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8" descr="http://icons.mysitemyway.com/wp-content/gallery/rounded-glossy-black-icons-sports-hobbies/047393-rounded-glossy-black-icon-sports-hobbies-art-palette-sc44.png"/>
          <p:cNvPicPr/>
          <p:nvPr/>
        </p:nvPicPr>
        <p:blipFill>
          <a:blip r:embed="rId2"/>
          <a:stretch/>
        </p:blipFill>
        <p:spPr>
          <a:xfrm>
            <a:off x="450720" y="5254560"/>
            <a:ext cx="1536840" cy="1238400"/>
          </a:xfrm>
          <a:prstGeom prst="rect">
            <a:avLst/>
          </a:prstGeom>
          <a:ln w="0">
            <a:noFill/>
          </a:ln>
        </p:spPr>
      </p:pic>
      <p:sp>
        <p:nvSpPr>
          <p:cNvPr id="413" name="Date Placeholder 6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FBAC-3ECE-4837-9EF2-166E1F0F0B3F}" type="datetime">
              <a:rPr b="0" lang="en-US" sz="1200" spc="-1" strike="noStrike">
                <a:solidFill>
                  <a:srgbClr val="464653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8:53:35Z</dcterms:created>
  <dc:creator>shultqui</dc:creator>
  <dc:description/>
  <dc:language>en-US</dc:language>
  <cp:lastModifiedBy>shultqui</cp:lastModifiedBy>
  <dcterms:modified xsi:type="dcterms:W3CDTF">2012-03-07T13:34:10Z</dcterms:modified>
  <cp:revision>23</cp:revision>
  <dc:subject/>
  <dc:title>Beyond PowerPoint Bullets</dc:title>
</cp:coreProperties>
</file>